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9E9-EF50-4E5C-9928-D7A4125B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F778-4EBA-4E4F-9EE0-1B215E90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6A14-09B5-4807-AB0F-FB6390D2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81F-1DA0-4D29-A39F-F55B09F6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3E87-3F1F-4BA3-9EE2-86D5FCA3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D996-F174-4C95-B2B1-8DC9926A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9A74-EE9D-4142-8315-A5B06C73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AB2A-DCA1-464F-8E3A-61568314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F475-7927-4212-BA9E-B1D55B4E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BF6F-891E-4B4C-BFD9-01051F90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BF09-1F68-4CFD-A65F-A1669E8C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DB2A-7C0E-4A1B-93F2-FD550DA5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B232-E828-4515-8E83-6E9AD3C2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D7E3-52D5-4DFA-8B5D-829C9963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C3C9-37A9-49AA-AB6A-1F784B46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D203-C848-4992-8DEE-364931C7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DF15-074D-4F69-B570-7FAA6706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67E-6EB6-4278-AFF8-E6DE4AB6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F55-9629-42BE-A666-B8FF9FA9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35F2-5470-43B2-ADF6-5966C040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F925-E447-43C1-869E-BAA9D47C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3B5-95AB-466D-BD12-17899F64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D525-9551-4974-A4F1-5E56EEF3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4C38-7BF5-4E04-8200-DE398E8A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026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1027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1028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1029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1030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1031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1032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1033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34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19D2-9216-4F8E-A250-BD9A967C9914}" type="slidenum">
              <a:rPr b="0" lang="en-A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A9D8-BF9F-42A0-910F-880B7CD3C69B}" type="slidenum">
              <a:rPr b="0" lang="en-A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ebd189"/>
                </a:solidFill>
                <a:latin typeface="Arial"/>
              </a:rPr>
              <a:t>Job Analysi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2" name="Content Placeholder 6" descr="happy.jpg"/>
          <p:cNvPicPr/>
          <p:nvPr/>
        </p:nvPicPr>
        <p:blipFill>
          <a:blip r:embed="rId1"/>
          <a:stretch/>
        </p:blipFill>
        <p:spPr>
          <a:xfrm>
            <a:off x="3575160" y="1496880"/>
            <a:ext cx="5111640" cy="340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What is job analys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How do you carry out a J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Types of JA’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Develop a J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Case stu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676520" y="533520"/>
            <a:ext cx="4343400" cy="1447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imes New Roman"/>
              </a:rPr>
              <a:t>Job Analysis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762120" y="2362320"/>
            <a:ext cx="3124080" cy="4114800"/>
          </a:xfrm>
          <a:prstGeom prst="foldedCorner">
            <a:avLst>
              <a:gd name="adj" fmla="val 12500"/>
            </a:avLst>
          </a:prstGeom>
          <a:solidFill>
            <a:srgbClr val="b97c01"/>
          </a:solidFill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Job Description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mmary of job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st of duti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chine, equipment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d Tools use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pervision give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d receive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orking condition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zard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5029200" y="2362320"/>
            <a:ext cx="3733920" cy="4114800"/>
          </a:xfrm>
          <a:prstGeom prst="foldedCorner">
            <a:avLst>
              <a:gd name="adj" fmla="val 12500"/>
            </a:avLst>
          </a:prstGeom>
          <a:solidFill>
            <a:srgbClr val="b97c01"/>
          </a:solidFill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Job Specification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ducation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aining require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perienc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itia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Judgme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ponsibiliti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kills &amp; Abiliti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otional characteristic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nusual sensory demand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6172200" y="380880"/>
            <a:ext cx="2438280" cy="1600200"/>
          </a:xfrm>
          <a:prstGeom prst="leftArrow">
            <a:avLst>
              <a:gd name="adj1" fmla="val 50000"/>
              <a:gd name="adj2" fmla="val 38093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Job inform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gathering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33720" y="18288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cab40"/>
          </a:solidFill>
          <a:ln w="936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5181480" y="18288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cab40"/>
          </a:solidFill>
          <a:ln w="936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d189"/>
                </a:solidFill>
                <a:latin typeface="Arial"/>
              </a:rPr>
              <a:t>Job Analysis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066680" y="4343400"/>
            <a:ext cx="1828800" cy="144792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Performance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anagement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80880" y="2590920"/>
            <a:ext cx="1828800" cy="144756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 Narrow"/>
              </a:rPr>
              <a:t>Recruitment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 Narrow"/>
              </a:rPr>
              <a:t>&amp; Selection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124080" y="4724280"/>
            <a:ext cx="1828800" cy="144792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 Narrow"/>
              </a:rPr>
              <a:t>Training &amp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 Narrow"/>
              </a:rPr>
              <a:t>Development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257800" y="4038480"/>
            <a:ext cx="1828800" cy="144792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Remuneration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7315200" y="2705040"/>
            <a:ext cx="1828800" cy="144792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 Narrow"/>
              </a:rPr>
              <a:t>Job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 Narrow"/>
              </a:rPr>
              <a:t>Evaluation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Line 9"/>
          <p:cNvSpPr/>
          <p:nvPr/>
        </p:nvSpPr>
        <p:spPr>
          <a:xfrm flipH="1">
            <a:off x="2514240" y="1676520"/>
            <a:ext cx="1676520" cy="129528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7" name="Line 10"/>
          <p:cNvSpPr/>
          <p:nvPr/>
        </p:nvSpPr>
        <p:spPr>
          <a:xfrm flipH="1">
            <a:off x="2904480" y="2289240"/>
            <a:ext cx="1200600" cy="1746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Line 11"/>
          <p:cNvSpPr/>
          <p:nvPr/>
        </p:nvSpPr>
        <p:spPr>
          <a:xfrm flipH="1">
            <a:off x="4264200" y="2029320"/>
            <a:ext cx="365040" cy="225648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5162760" y="1854360"/>
            <a:ext cx="874440" cy="192996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5694840" y="1684440"/>
            <a:ext cx="1488240" cy="150804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Arial"/>
              </a:rPr>
              <a:t>Performing Job Analysis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295280" y="1600200"/>
            <a:ext cx="2514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Select job to stud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905120" y="1600200"/>
            <a:ext cx="1371600" cy="30492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Step 1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5410080" y="1523880"/>
            <a:ext cx="28958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Determine information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to collec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990720" y="3429000"/>
            <a:ext cx="2514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Identify sourc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of dat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5334120" y="3429000"/>
            <a:ext cx="2514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Methods of dat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collec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990720" y="5334120"/>
            <a:ext cx="2514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Evaluate &amp; verify dat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600200" y="3429000"/>
            <a:ext cx="1371600" cy="30492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Step 3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6248520" y="1523880"/>
            <a:ext cx="1371600" cy="30492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Step 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5943600" y="3429000"/>
            <a:ext cx="1371600" cy="30492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Step 4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1523880" y="5334120"/>
            <a:ext cx="1371600" cy="30456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Step 5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5181480" y="5257800"/>
            <a:ext cx="2514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Write job repo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5867280" y="5257800"/>
            <a:ext cx="1371600" cy="30492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Step 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4" name="AutoShape 16"/>
          <p:cNvSpPr/>
          <p:nvPr/>
        </p:nvSpPr>
        <p:spPr>
          <a:xfrm>
            <a:off x="4038480" y="1905120"/>
            <a:ext cx="1143000" cy="533160"/>
          </a:xfrm>
          <a:prstGeom prst="rightArrow">
            <a:avLst>
              <a:gd name="adj1" fmla="val 50000"/>
              <a:gd name="adj2" fmla="val 53596"/>
            </a:avLst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5" name="AutoShape 17"/>
          <p:cNvSpPr/>
          <p:nvPr/>
        </p:nvSpPr>
        <p:spPr>
          <a:xfrm>
            <a:off x="3886200" y="380988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AutoShape 18"/>
          <p:cNvSpPr/>
          <p:nvPr/>
        </p:nvSpPr>
        <p:spPr>
          <a:xfrm>
            <a:off x="3733920" y="563868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Determining Job Requirement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990720" y="2133720"/>
            <a:ext cx="2971800" cy="114300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What the employee does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How the employee does it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Why the employee does it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5257800" y="2133720"/>
            <a:ext cx="2971800" cy="83808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Determining job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requirements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990720" y="4114800"/>
            <a:ext cx="2971800" cy="83808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Summary statement of the job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990720" y="5638680"/>
            <a:ext cx="2971800" cy="114300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Personal qualifications required: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Skills, education &amp; experienc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Working conditions affecting: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Health, safety, &amp; comfort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5257800" y="3886200"/>
            <a:ext cx="2971800" cy="114300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Employee orientation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Employee instruction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Supervision &amp; control disciplinar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Grievance handling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5181480" y="5638680"/>
            <a:ext cx="3429000" cy="114300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Recruitment &amp; selection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Training &amp; development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Job evaluation &amp; wage determination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Health &amp; safety programs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1600200" y="1676520"/>
            <a:ext cx="205740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 Narrow"/>
              </a:rPr>
              <a:t>Job analysi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1600200" y="3657600"/>
            <a:ext cx="205740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 Narrow"/>
              </a:rPr>
              <a:t>Job descrip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1600200" y="5181480"/>
            <a:ext cx="2057400" cy="381240"/>
          </a:xfrm>
          <a:prstGeom prst="rect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 Narrow"/>
              </a:rPr>
              <a:t>Job specific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1219320" y="3276720"/>
            <a:ext cx="0" cy="53316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1219320" y="4952880"/>
            <a:ext cx="0" cy="53352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4114800" y="2514600"/>
            <a:ext cx="1066680" cy="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0" name="Line 16"/>
          <p:cNvSpPr/>
          <p:nvPr/>
        </p:nvSpPr>
        <p:spPr>
          <a:xfrm>
            <a:off x="4114800" y="4495680"/>
            <a:ext cx="1066680" cy="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1" name="Line 17"/>
          <p:cNvSpPr/>
          <p:nvPr/>
        </p:nvSpPr>
        <p:spPr>
          <a:xfrm>
            <a:off x="4114800" y="6248520"/>
            <a:ext cx="1066680" cy="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2" name="AutoShape 18"/>
          <p:cNvSpPr/>
          <p:nvPr/>
        </p:nvSpPr>
        <p:spPr>
          <a:xfrm rot="18967200">
            <a:off x="3657240" y="1142640"/>
            <a:ext cx="1523880" cy="990720"/>
          </a:xfrm>
          <a:prstGeom prst="leftArrow">
            <a:avLst>
              <a:gd name="adj1" fmla="val 50000"/>
              <a:gd name="adj2" fmla="val 38454"/>
            </a:avLst>
          </a:prstGeom>
          <a:solidFill>
            <a:srgbClr val="dddddd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Nature of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3" name="AutoShape 20"/>
          <p:cNvSpPr/>
          <p:nvPr/>
        </p:nvSpPr>
        <p:spPr>
          <a:xfrm rot="2112600">
            <a:off x="5638680" y="1142640"/>
            <a:ext cx="1524240" cy="990720"/>
          </a:xfrm>
          <a:prstGeom prst="rightArrow">
            <a:avLst>
              <a:gd name="adj1" fmla="val 50000"/>
              <a:gd name="adj2" fmla="val 38463"/>
            </a:avLst>
          </a:prstGeom>
          <a:solidFill>
            <a:srgbClr val="dddddd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Basis for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762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reparing the Job Description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52280" y="3200400"/>
            <a:ext cx="91440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Job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analys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828800" y="5029200"/>
            <a:ext cx="1676520" cy="76212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Possibl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referenc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1828800" y="3048120"/>
            <a:ext cx="1676520" cy="99036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4"/>
                </a:solidFill>
                <a:latin typeface="Arial Narrow"/>
              </a:rPr>
              <a:t>Interview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4"/>
                </a:solidFill>
                <a:latin typeface="Arial Narrow"/>
              </a:rPr>
              <a:t>Questionnair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4"/>
                </a:solidFill>
                <a:latin typeface="Arial Narrow"/>
              </a:rPr>
              <a:t>observation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1905120" y="1676520"/>
            <a:ext cx="1676160" cy="76176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Interview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questionnair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4191120" y="1676520"/>
            <a:ext cx="1676160" cy="53316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Superviso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4419720" y="5105520"/>
            <a:ext cx="1066680" cy="45720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ASCO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4191120" y="2971800"/>
            <a:ext cx="1676160" cy="53352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Employe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4191120" y="4114800"/>
            <a:ext cx="1676160" cy="53352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Combine and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Reconcile data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4114800" y="6019920"/>
            <a:ext cx="1752480" cy="53316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4"/>
                </a:solidFill>
                <a:latin typeface="Arial Narrow"/>
              </a:rPr>
              <a:t>Other employer'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4"/>
                </a:solidFill>
                <a:latin typeface="Arial Narrow"/>
              </a:rPr>
              <a:t>description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6553080" y="1600200"/>
            <a:ext cx="1447920" cy="76212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Securing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consensu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6553080" y="4114800"/>
            <a:ext cx="1067040" cy="76212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Tentative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Draf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7238880" y="2819520"/>
            <a:ext cx="1447920" cy="7617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Final Draf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AutoShape 22"/>
          <p:cNvSpPr/>
          <p:nvPr/>
        </p:nvSpPr>
        <p:spPr>
          <a:xfrm>
            <a:off x="1523880" y="1905120"/>
            <a:ext cx="381240" cy="3657600"/>
          </a:xfrm>
          <a:custGeom>
            <a:avLst/>
            <a:gdLst>
              <a:gd name="textAreaLeft" fmla="*/ 111960 w 381240"/>
              <a:gd name="textAreaRight" fmla="*/ 381600 w 381240"/>
              <a:gd name="textAreaTop" fmla="*/ 152280 h 3657600"/>
              <a:gd name="textAreaBottom" fmla="*/ 350532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1523880" y="34290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1219320" y="358128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0" name="Line 26"/>
          <p:cNvSpPr/>
          <p:nvPr/>
        </p:nvSpPr>
        <p:spPr>
          <a:xfrm>
            <a:off x="3581280" y="5334120"/>
            <a:ext cx="8384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Line 27"/>
          <p:cNvSpPr/>
          <p:nvPr/>
        </p:nvSpPr>
        <p:spPr>
          <a:xfrm>
            <a:off x="3657600" y="182880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3581280" y="3276720"/>
            <a:ext cx="6098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3" name="Line 29"/>
          <p:cNvSpPr/>
          <p:nvPr/>
        </p:nvSpPr>
        <p:spPr>
          <a:xfrm>
            <a:off x="601992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4" name="Line 30"/>
          <p:cNvSpPr/>
          <p:nvPr/>
        </p:nvSpPr>
        <p:spPr>
          <a:xfrm>
            <a:off x="6172200" y="1828800"/>
            <a:ext cx="0" cy="1219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5" name="Line 31"/>
          <p:cNvSpPr/>
          <p:nvPr/>
        </p:nvSpPr>
        <p:spPr>
          <a:xfrm>
            <a:off x="5105520" y="34290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6248520" y="5257800"/>
            <a:ext cx="0" cy="9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7" name="Line 33"/>
          <p:cNvSpPr/>
          <p:nvPr/>
        </p:nvSpPr>
        <p:spPr>
          <a:xfrm>
            <a:off x="5562720" y="5257800"/>
            <a:ext cx="6858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Line 34"/>
          <p:cNvSpPr/>
          <p:nvPr/>
        </p:nvSpPr>
        <p:spPr>
          <a:xfrm flipH="1">
            <a:off x="5943240" y="61722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Line 35"/>
          <p:cNvSpPr/>
          <p:nvPr/>
        </p:nvSpPr>
        <p:spPr>
          <a:xfrm>
            <a:off x="5867280" y="18288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Line 36"/>
          <p:cNvSpPr/>
          <p:nvPr/>
        </p:nvSpPr>
        <p:spPr>
          <a:xfrm>
            <a:off x="5943600" y="304812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Line 37"/>
          <p:cNvSpPr/>
          <p:nvPr/>
        </p:nvSpPr>
        <p:spPr>
          <a:xfrm>
            <a:off x="6172200" y="2057400"/>
            <a:ext cx="3808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Line 38"/>
          <p:cNvSpPr/>
          <p:nvPr/>
        </p:nvSpPr>
        <p:spPr>
          <a:xfrm flipV="1">
            <a:off x="7162920" y="4876920"/>
            <a:ext cx="0" cy="838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3" name="Line 39"/>
          <p:cNvSpPr/>
          <p:nvPr/>
        </p:nvSpPr>
        <p:spPr>
          <a:xfrm>
            <a:off x="6248520" y="571500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Line 40"/>
          <p:cNvSpPr/>
          <p:nvPr/>
        </p:nvSpPr>
        <p:spPr>
          <a:xfrm flipV="1">
            <a:off x="6781680" y="2362320"/>
            <a:ext cx="0" cy="1676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8381880" y="198108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8153280" y="198108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7" name="Line 44"/>
          <p:cNvSpPr/>
          <p:nvPr/>
        </p:nvSpPr>
        <p:spPr>
          <a:xfrm>
            <a:off x="3809880" y="533412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8" name="Line 45"/>
          <p:cNvSpPr/>
          <p:nvPr/>
        </p:nvSpPr>
        <p:spPr>
          <a:xfrm>
            <a:off x="3809880" y="64008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04:58:40Z</dcterms:created>
  <dc:creator>John McDonald</dc:creator>
  <dc:description/>
  <dc:language>en-US</dc:language>
  <cp:lastModifiedBy>John</cp:lastModifiedBy>
  <dcterms:modified xsi:type="dcterms:W3CDTF">2010-07-24T23:46:28Z</dcterms:modified>
  <cp:revision>6</cp:revision>
  <dc:subject/>
  <dc:title>PowerPoint Presentation</dc:title>
</cp:coreProperties>
</file>